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804-49E5-43F3-AC71-F9BF8997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1AF-45CE-4367-9164-6B48CA8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7E9-52C3-40B8-A905-390CDF80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070-EC83-445F-A3A3-09CEA290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276E-694F-4C8B-B3E2-A07DDEB9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7E0-8935-4BC9-9984-1FFDBF22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341-E4CF-448D-A358-DB4E741A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0C0-371A-45E5-A340-F45A229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1955-077B-4201-BBA7-470CBD8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A7E4-2C18-49D4-A91B-416B0A6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3A05-D9B9-4307-80AE-5155108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B44-71EF-4854-AFD7-FE5356B0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415B-CAE9-4AA7-8735-79A8845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516D-E124-476F-8F86-CDC3A4F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8CB-4591-4CA6-A618-9CEE6DBD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1C5A-0FB2-441F-9DDD-B5D50411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321E-C8C4-48EB-BB7C-5267D1D3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4C6-7612-4C9A-BCEC-6AC58D9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8B2-6AEC-4625-AD1C-E2ED041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C7B-CA3E-472C-BB51-F5A0A9E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903-9472-4327-9664-AF6B687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011-1295-422C-A5E0-7AA00CA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332-8CD1-4460-BC67-90F7E53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5B3-2600-4063-8241-20B9FE6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EEC-0509-4C62-B20A-B1FC9F8BE469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00D8-F6BC-4A8F-8B44-4C4B203B8571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Going My Wa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Hayden and Allis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Destinati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Milwaukee, WI to Scotlandville, LA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eans of transportation: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Fares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lta Airlines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Milwaukee, WI to Scotlandville, LA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$473.91 Per Passenger Round Trip Coach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rinciple ticket price- $433.0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ees- $40.9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3 People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lane Tickets- $1421.70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Baton Roug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2:35 PM April 1</a:t>
            </a:r>
            <a:r>
              <a:rPr b="0" lang="en-US" sz="1600" spc="-1" strike="noStrike" baseline="30000">
                <a:solidFill>
                  <a:srgbClr val="00408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LA at 7:17  PM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1 hr 8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Milwauke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7:45 AM April 15,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Milwaukee- 12:03 PM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57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51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Layover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Baton Roug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2:35 PM April 1st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LA at 7:17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1 hr 8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Milwauke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7:45 AM April 15,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Milwaukee- 12:03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57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ntal Car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190.49 Per Week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2 Weeks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380.9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rom Hertz Car Rental Servic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19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ap of the route of our plane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9960" y="21812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Milwaukee to Atlanta, Georgi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tlanta, Georgia to Baton Rouge, Louisian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14:42Z</dcterms:created>
  <dc:creator>MPS MPS</dc:creator>
  <dc:description/>
  <dc:language>en-US</dc:language>
  <cp:lastModifiedBy>MPS MPS</cp:lastModifiedBy>
  <dcterms:modified xsi:type="dcterms:W3CDTF">2009-04-02T13:59:36Z</dcterms:modified>
  <cp:revision>3</cp:revision>
  <dc:subject/>
  <dc:title>Going My Way</dc:title>
</cp:coreProperties>
</file>